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C1DF-5C96-4564-B54A-DF1822EF9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26C3-EB10-430E-97B5-7CE258D5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4988-33B0-4214-BE0C-2F26509D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E588-6F6F-47A4-A35C-479FC5FA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66E9-DE11-4068-B32A-A35682DB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7ECB-484E-421A-8B24-18311C8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207F-332A-4BE8-8E81-48F02E47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E732-7121-42AE-BD93-D23DCB7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9B98-9941-4A0D-8017-AB6C9C3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1C218-C979-447A-8E6A-99176F1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349D-5791-4CA6-A7D0-E78C709EE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E2B54-7E26-4585-B83E-B7CFAC56F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77A0-7ACE-4435-A7DF-091452F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DF277-D120-4F84-B603-3B86028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B7F62-F332-4D26-8841-F9CBB40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83A89-EB8B-4D93-BC0E-FE93477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C969B-3478-4D19-A73D-00A53A61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06E48-D68C-4FBC-9D7C-0DA46A05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B0321-F750-425F-AEB8-0733ECD5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F22D0-8C9B-4AAB-A87F-344946B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52EB1-5220-4E43-A7D6-87EEB9E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D559A-640C-4BEC-8EF9-49D6243A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CEB4B-0EA9-47CD-95F0-B195B82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3207-E64B-467D-934C-5EEAEBB39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2D5E9-AF76-4E41-A0A6-5DDFA90F1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A0D6B-9FDC-4D59-AA13-747EC1336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C102DD-47BD-4CA6-83CB-BDC0959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8445E-C9EC-4CFB-BAF7-848C9642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B8543A-CAA6-4C37-9514-EBD0B47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AB9D2E-5C94-4025-9A86-C15E696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B52B2D-6915-40C5-9C7F-4BED0713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9A8A69-4F94-4FBF-A8B4-FF8D755C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8F17B-3588-46D3-9C95-ADF61E6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494F2B-5EE0-4DB1-83D6-38DA188D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987A-26B2-49C9-A3B9-4ADA7D4AB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671F8-7649-44D9-8E8A-6C2E583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9003BE-3467-4C8D-B359-615C03A9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6B06E-B372-4177-8662-C717C906E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03E8-FA51-4C34-B78B-C3C7FE7AA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17F24-61F7-4364-85C0-E6D5037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F57B4-674A-4A0D-B68A-51D0C93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718D0-342C-49B7-BA63-35E0761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31BD-46AE-4A18-B259-BBB4877C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99C2-8D7D-4502-9530-CE7095E3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CC539-9A05-4BD4-BECE-96048C6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C9625-6FB0-401B-AF40-F67A3DB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B2380-3581-4D96-9287-EEFDA13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F607D-F2AE-489D-B0F3-C1E2EB2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71FD-5E12-4E39-9E38-1391776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A8287-8EE2-42A5-AD6E-61B82BD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A76B-7873-4349-BDEA-2C537F94D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3461F-7132-4C79-957A-975BE28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F94B-E475-44F2-AED7-03A8D6F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C0542-6EB3-4895-ACA0-15D747F4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70616-C687-46D1-9D24-89976161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0F344-3C39-4DCE-A5F3-1D7AF4C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5048-3B49-4CF6-97D1-79989ADD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4BFB0-54FD-4868-9913-C1B438C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609D-A927-494B-B095-9163E413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23BE5-9C4C-45BE-87A2-1B8D0B05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5AD25-9F36-4403-9448-48B6CCD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A602-623A-4C88-AA7C-4EDAA3EBD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1FD5-B20A-4979-A097-E6E51BFC5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BB2F-F770-4B85-B81C-8761AA7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A8B-916D-4B12-8405-DF5E1D8B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4E9-8991-4CC5-8F1D-D93DA0E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0719-FFEE-4C31-9AAE-2691ECE5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7E00-EC5C-4BE1-A1D8-42612DDF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2875-D117-4D2F-90A5-198DDAD4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062-DE77-4BAD-A77A-66B469D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F177-0B42-4958-98BD-6E055EF0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943F-293F-43D8-9AFD-CF5F0ED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1E16-3C6D-40CA-9643-A693E99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87C-28A3-4FF6-ADFA-7D1F5C4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8DC-B261-46C8-B9C6-CBA6C7CDE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6DCEC-4B1D-4F72-AA03-41D93BE92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1CA39-EEC1-4AC4-BD93-0A147A1A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91E92-EE85-4D1C-9A68-B3BB178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821B-AD40-4BFC-AFF2-3F03B9D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055F2-714C-48CE-960E-93ECEFE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651F7-7499-4AB1-9F79-FC3698A7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8D268-86E9-434B-BFCC-90DC9EEC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9797E-40BB-47EB-8CFF-692E2CA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C6FE7-A738-45A1-8476-12D26B5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0D340-E133-431C-9F89-979C0B6E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EC4DC-3C74-45E4-8B91-C420F50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A5025-F5F5-4BFD-9E1A-AD1D32B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18318-C1F3-436F-9E2B-C3B18ED85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8EB37-0459-40A3-A4F8-760F52BC2E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4525-24D5-4E9B-B7A3-1CD16C1F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B8066-BC90-48B0-8845-AF65F17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75A04-E159-4DEF-88F3-E3BDE6A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BE711-D04A-4634-BAD8-42C75873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87C87-CF7A-47C3-A021-3A3A0B4A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E970E-EE4D-46FE-A1AF-1D20039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76904-93E7-4370-B7C9-440519A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BDCB2-875C-4692-BCA5-807E4C9E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2A5AD-A314-4789-A032-45D618D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C3538-E081-47C2-B5A4-3D45C595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08DAB-CB48-429A-A630-D24A000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1686-B3A7-4D2F-9201-1BEA34AA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CCA5E-5928-4F74-A33E-67EA21BB3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8A93-7F3A-4402-9849-9AF144147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C5BF-460C-44A6-8EF4-FCBB92D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D967-DF1B-4F93-8538-57ECA4B0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F989-66E0-4DF9-B8AB-9ECCCE90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8ECE-69FA-41F1-A650-7B768188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5E698-0899-41F0-9285-E5636E57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1B5F-C0BC-4494-86BE-82242CC5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51BD-CD30-40AC-9D86-235BF54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0D8C-04BD-420C-B382-90BD51F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FFE7-CC96-4D1A-B44E-B01B5EC8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FBF9-227F-4DDC-8C35-A5086FC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6F68-B0F9-477C-82F6-EB56F22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E5A4-D11A-4E1B-8028-5A3C6F03F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841BA-BB55-409D-99A2-7C71689F3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98959-BFDC-4574-A9A8-FB205327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8E7A3-8200-41E9-B509-BF413857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5177E-8AF5-4731-AEF7-E9DA69B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03B10-930A-4866-8731-DB7F32C2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5F3B6-0041-409C-9B9E-197623D4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28C6E-3567-4536-A384-20C457F9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3820-414A-4B68-BC75-2868899E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71828-A7AB-4F69-86EC-FB0B0BC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38A83-D2C4-455E-BC5E-59B9642B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C9A12-908A-4419-A15B-CBEAA1E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FE656-BF21-44DD-B536-87D849B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AF432-B69D-4E5B-9D37-3C5FD4BE5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5DEA71-3D80-455E-AE40-D94F9CA93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80081-9E3D-41D1-AAB0-1D7F61E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03A28-3982-45B8-9502-6B64405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ADB86-9007-492C-95E6-789A40F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7AAC0-21AC-4EA4-A5FB-11E09D1E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AEBB-BC1E-4A5E-B54C-8F91221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399600"/>
            <a:ext cx="76960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9CA14-9CAC-4A45-AA5F-EC13FBFB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75B58-05F4-413E-9282-637181B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0F1FD-F1BE-4214-9151-1EB2FA13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33B83F-3DD8-4DD4-AE22-B4FFF9A7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2966400"/>
            <a:ext cx="822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E8BA19-66E3-4EC8-BE99-62107BB2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08576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2966400"/>
            <a:ext cx="4015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B11EA-56F7-4404-A11E-853B2FF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08576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2966400"/>
            <a:ext cx="2649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3C852-B879-4F18-B748-8D4D1B251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676A-52EE-42CA-84B2-371570D59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C4F9-6B9F-475A-94B3-84E11B3D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FAE6-B7A9-49A4-9A54-FC180D5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360" y="857160"/>
            <a:ext cx="7086600" cy="17640"/>
            <a:chOff x="-360" y="857160"/>
            <a:chExt cx="7086600" cy="17640"/>
          </a:xfrm>
        </p:grpSpPr>
        <p:sp>
          <p:nvSpPr>
            <p:cNvPr id="1" name="Line 7"/>
            <p:cNvSpPr/>
            <p:nvPr/>
          </p:nvSpPr>
          <p:spPr>
            <a:xfrm flipH="1">
              <a:off x="-360" y="857160"/>
              <a:ext cx="708660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0" y="874800"/>
              <a:ext cx="31240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2BE-80D3-4386-B7DE-F172354B9B4D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0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AEC1-CC05-464E-BEFB-4536CF480D99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2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44D9-194E-4582-A4BB-6727B0842FB5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3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4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348-54A8-481E-9DB1-6C406EDFFC8F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AF46-5CA6-4E2B-B888-CC6CF2441E86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009-0728-42E1-8C65-BB60FF98C66D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F92-006B-4CE2-A962-D6F6A0543832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0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E85-0796-42A2-9F9C-8736573BEE9E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1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8449-1647-4143-B2F2-9D3D4D2F6BEB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4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EE12-015A-4C9C-BC3B-0E4FB4C4FDCD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16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D84-2DAD-4CB2-8841-486BF6722AC4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457200" y="10857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c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399600"/>
            <a:ext cx="7696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微软雅黑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7"/>
          </p:nvPr>
        </p:nvSpPr>
        <p:spPr>
          <a:xfrm>
            <a:off x="4568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18"/>
          </p:nvPr>
        </p:nvSpPr>
        <p:spPr>
          <a:xfrm>
            <a:off x="3428640" y="4917600"/>
            <a:ext cx="21337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A85-2400-4114-9336-2B827FF1C0D3}" type="slidenum">
              <a:rPr b="0" lang="zh-CN" sz="24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C:\Users\Administrator\Desktop\宣传册底图-1.jpg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C:\Users\Administrator\Desktop\颂大LOGO-矢量图-反白.png"/>
          <p:cNvPicPr/>
          <p:nvPr/>
        </p:nvPicPr>
        <p:blipFill>
          <a:blip r:embed="rId2"/>
          <a:stretch/>
        </p:blipFill>
        <p:spPr>
          <a:xfrm>
            <a:off x="357120" y="357120"/>
            <a:ext cx="1357560" cy="358920"/>
          </a:xfrm>
          <a:prstGeom prst="rect">
            <a:avLst/>
          </a:prstGeom>
          <a:ln w="0">
            <a:noFill/>
          </a:ln>
        </p:spPr>
      </p:pic>
      <p:sp>
        <p:nvSpPr>
          <p:cNvPr id="485" name="矩形 15"/>
          <p:cNvSpPr/>
          <p:nvPr/>
        </p:nvSpPr>
        <p:spPr>
          <a:xfrm>
            <a:off x="1357200" y="1571760"/>
            <a:ext cx="65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教学质量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化校园终极目标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86" name="矩形 15"/>
          <p:cNvSpPr/>
          <p:nvPr/>
        </p:nvSpPr>
        <p:spPr>
          <a:xfrm>
            <a:off x="3586680" y="4429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武汉颂大教育科技股份有限公司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1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73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88" name="椭圆 26"/>
          <p:cNvSpPr/>
          <p:nvPr/>
        </p:nvSpPr>
        <p:spPr>
          <a:xfrm>
            <a:off x="571680" y="2357280"/>
            <a:ext cx="4572000" cy="1785960"/>
          </a:xfrm>
          <a:prstGeom prst="ellipse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89" name="椭圆 22"/>
          <p:cNvSpPr/>
          <p:nvPr/>
        </p:nvSpPr>
        <p:spPr>
          <a:xfrm>
            <a:off x="1285920" y="1643040"/>
            <a:ext cx="1571760" cy="157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0" name="椭圆 27"/>
          <p:cNvSpPr/>
          <p:nvPr/>
        </p:nvSpPr>
        <p:spPr>
          <a:xfrm>
            <a:off x="2428920" y="2000160"/>
            <a:ext cx="1571760" cy="1571760"/>
          </a:xfrm>
          <a:prstGeom prst="ellipse">
            <a:avLst/>
          </a:prstGeom>
          <a:solidFill>
            <a:srgbClr val="a6a6a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1" name="椭圆 28"/>
          <p:cNvSpPr/>
          <p:nvPr/>
        </p:nvSpPr>
        <p:spPr>
          <a:xfrm>
            <a:off x="1428840" y="2857680"/>
            <a:ext cx="1571400" cy="1571400"/>
          </a:xfrm>
          <a:prstGeom prst="ellipse">
            <a:avLst/>
          </a:prstGeom>
          <a:solidFill>
            <a:srgbClr val="7f7f7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3724200" y="85932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信息化企业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493" name="组合 13"/>
          <p:cNvGrpSpPr/>
          <p:nvPr/>
        </p:nvGrpSpPr>
        <p:grpSpPr>
          <a:xfrm>
            <a:off x="5643720" y="1785960"/>
            <a:ext cx="2444760" cy="2432160"/>
            <a:chOff x="5643720" y="1785960"/>
            <a:chExt cx="2444760" cy="2432160"/>
          </a:xfrm>
        </p:grpSpPr>
        <p:sp>
          <p:nvSpPr>
            <p:cNvPr id="494" name="椭圆 7"/>
            <p:cNvSpPr/>
            <p:nvPr/>
          </p:nvSpPr>
          <p:spPr>
            <a:xfrm>
              <a:off x="5643720" y="1785960"/>
              <a:ext cx="244476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edd"/>
                </a:gs>
              </a:gsLst>
              <a:lin ang="96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  <p:grpSp>
          <p:nvGrpSpPr>
            <p:cNvPr id="495" name="椭圆 8"/>
            <p:cNvGrpSpPr/>
            <p:nvPr/>
          </p:nvGrpSpPr>
          <p:grpSpPr>
            <a:xfrm>
              <a:off x="5852160" y="1993320"/>
              <a:ext cx="2030040" cy="2018160"/>
              <a:chOff x="5852160" y="1993320"/>
              <a:chExt cx="2030040" cy="2018160"/>
            </a:xfrm>
          </p:grpSpPr>
          <p:pic>
            <p:nvPicPr>
              <p:cNvPr id="496" name="椭圆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852160" y="1993320"/>
                <a:ext cx="2030040" cy="20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6151680" y="2291400"/>
                <a:ext cx="1428480" cy="14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c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Rectangle 1"/>
          <p:cNvSpPr/>
          <p:nvPr/>
        </p:nvSpPr>
        <p:spPr>
          <a:xfrm>
            <a:off x="824040" y="1932120"/>
            <a:ext cx="18572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技术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折腾派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2700360" y="2217240"/>
            <a:ext cx="820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资源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宝典派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00" name="Picture 6" descr="D:\f\颂大VI\LOGO\颂大LOGO-矢量图.png"/>
          <p:cNvPicPr/>
          <p:nvPr/>
        </p:nvPicPr>
        <p:blipFill>
          <a:blip r:embed="rId2"/>
          <a:stretch/>
        </p:blipFill>
        <p:spPr>
          <a:xfrm>
            <a:off x="7807320" y="214200"/>
            <a:ext cx="1062000" cy="28584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1708200" y="3289320"/>
            <a:ext cx="820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平台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能派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6026760" y="2607480"/>
            <a:ext cx="1278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质量派</a:t>
            </a:r>
            <a:endParaRPr b="1" lang="en-US" sz="4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03" name="椭圆 29"/>
          <p:cNvSpPr/>
          <p:nvPr/>
        </p:nvSpPr>
        <p:spPr>
          <a:xfrm>
            <a:off x="2857680" y="3214800"/>
            <a:ext cx="1143000" cy="1143000"/>
          </a:xfrm>
          <a:prstGeom prst="ellipse">
            <a:avLst/>
          </a:prstGeom>
          <a:solidFill>
            <a:srgbClr val="d9d9d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2818440" y="3430440"/>
            <a:ext cx="78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……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:\Users\Administrator\Desktop\宣传册底图-1.jpg"/>
          <p:cNvPicPr/>
          <p:nvPr/>
        </p:nvPicPr>
        <p:blipFill>
          <a:blip r:embed="rId1"/>
          <a:srcRect l="0" t="0" r="0" b="1000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1"/>
          <p:cNvSpPr/>
          <p:nvPr/>
        </p:nvSpPr>
        <p:spPr>
          <a:xfrm>
            <a:off x="1000080" y="178596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颂大从教育本源思考学校的发展、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质量的提升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07" name="Picture 6" descr="C:\Users\Administrator\Desktop\颂大LOGO-矢量图-反白.png"/>
          <p:cNvPicPr/>
          <p:nvPr/>
        </p:nvPicPr>
        <p:blipFill>
          <a:blip r:embed="rId2"/>
          <a:stretch/>
        </p:blipFill>
        <p:spPr>
          <a:xfrm>
            <a:off x="7643880" y="285840"/>
            <a:ext cx="114300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73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09" name="矩形 1"/>
          <p:cNvSpPr/>
          <p:nvPr/>
        </p:nvSpPr>
        <p:spPr>
          <a:xfrm>
            <a:off x="3385440" y="3357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53535"/>
                </a:solidFill>
                <a:latin typeface="微软雅黑"/>
                <a:ea typeface="微软雅黑"/>
              </a:rPr>
              <a:t>如何提升教学质量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510" name="组合 13"/>
          <p:cNvGrpSpPr/>
          <p:nvPr/>
        </p:nvGrpSpPr>
        <p:grpSpPr>
          <a:xfrm>
            <a:off x="3500280" y="785880"/>
            <a:ext cx="2357640" cy="2343240"/>
            <a:chOff x="3500280" y="785880"/>
            <a:chExt cx="2357640" cy="2343240"/>
          </a:xfrm>
        </p:grpSpPr>
        <p:sp>
          <p:nvSpPr>
            <p:cNvPr id="511" name="椭圆 3"/>
            <p:cNvSpPr/>
            <p:nvPr/>
          </p:nvSpPr>
          <p:spPr>
            <a:xfrm>
              <a:off x="3500280" y="785880"/>
              <a:ext cx="2357640" cy="2343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edd"/>
                </a:gs>
              </a:gsLst>
              <a:lin ang="96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c00000"/>
                </a:solidFill>
                <a:latin typeface="Arial"/>
              </a:endParaRPr>
            </a:p>
          </p:txBody>
        </p:sp>
        <p:grpSp>
          <p:nvGrpSpPr>
            <p:cNvPr id="512" name="椭圆 4"/>
            <p:cNvGrpSpPr/>
            <p:nvPr/>
          </p:nvGrpSpPr>
          <p:grpSpPr>
            <a:xfrm>
              <a:off x="3700080" y="981360"/>
              <a:ext cx="1956960" cy="1950840"/>
              <a:chOff x="3700080" y="981360"/>
              <a:chExt cx="1956960" cy="1950840"/>
            </a:xfrm>
          </p:grpSpPr>
          <p:pic>
            <p:nvPicPr>
              <p:cNvPr id="513" name="椭圆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0080" y="981360"/>
                <a:ext cx="1956960" cy="19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3990240" y="1272600"/>
                <a:ext cx="1377360" cy="13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c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矩形 5"/>
          <p:cNvSpPr/>
          <p:nvPr/>
        </p:nvSpPr>
        <p:spPr>
          <a:xfrm>
            <a:off x="4286160" y="1285920"/>
            <a:ext cx="121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?</a:t>
            </a:r>
            <a:endParaRPr b="1" lang="en-US" sz="96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16" name="Picture 6" descr="D:\f\颂大VI\LOGO\颂大LOGO-矢量图.png"/>
          <p:cNvPicPr/>
          <p:nvPr/>
        </p:nvPicPr>
        <p:blipFill>
          <a:blip r:embed="rId2"/>
          <a:stretch/>
        </p:blipFill>
        <p:spPr>
          <a:xfrm>
            <a:off x="7807320" y="214200"/>
            <a:ext cx="1062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14" descr="C:\Users\Administrator\Desktop\千图网_水墨素材图片_图片编号13711326\5384ae1b27a16.jpg"/>
          <p:cNvPicPr/>
          <p:nvPr/>
        </p:nvPicPr>
        <p:blipFill>
          <a:blip r:embed="rId1"/>
          <a:srcRect l="0" t="6862" r="622" b="1082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8" name="矩形 16"/>
          <p:cNvSpPr/>
          <p:nvPr/>
        </p:nvSpPr>
        <p:spPr>
          <a:xfrm>
            <a:off x="0" y="1643040"/>
            <a:ext cx="9144000" cy="1571760"/>
          </a:xfrm>
          <a:prstGeom prst="rect">
            <a:avLst/>
          </a:prstGeom>
          <a:solidFill>
            <a:srgbClr val="f2f2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9" name="文本框 1"/>
          <p:cNvSpPr/>
          <p:nvPr/>
        </p:nvSpPr>
        <p:spPr>
          <a:xfrm>
            <a:off x="2214720" y="185724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53535"/>
                </a:solidFill>
                <a:latin typeface="微软雅黑"/>
                <a:ea typeface="微软雅黑"/>
              </a:rPr>
              <a:t>数字时代的文化浸润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0" name="文本框 2"/>
          <p:cNvSpPr/>
          <p:nvPr/>
        </p:nvSpPr>
        <p:spPr>
          <a:xfrm>
            <a:off x="501048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物质文化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1" name="文本框 3"/>
          <p:cNvSpPr/>
          <p:nvPr/>
        </p:nvSpPr>
        <p:spPr>
          <a:xfrm>
            <a:off x="336744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行为文化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2" name="文本框 4"/>
          <p:cNvSpPr/>
          <p:nvPr/>
        </p:nvSpPr>
        <p:spPr>
          <a:xfrm>
            <a:off x="175860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精神文化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3" name="文本框 5"/>
          <p:cNvSpPr/>
          <p:nvPr/>
        </p:nvSpPr>
        <p:spPr>
          <a:xfrm>
            <a:off x="672516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视觉文化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4" name="椭圆 7"/>
          <p:cNvSpPr/>
          <p:nvPr/>
        </p:nvSpPr>
        <p:spPr>
          <a:xfrm>
            <a:off x="1357200" y="2720880"/>
            <a:ext cx="21456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5" name="椭圆 11"/>
          <p:cNvSpPr/>
          <p:nvPr/>
        </p:nvSpPr>
        <p:spPr>
          <a:xfrm>
            <a:off x="2967120" y="2720880"/>
            <a:ext cx="21420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6" name="椭圆 13"/>
          <p:cNvSpPr/>
          <p:nvPr/>
        </p:nvSpPr>
        <p:spPr>
          <a:xfrm>
            <a:off x="4610160" y="2720880"/>
            <a:ext cx="21420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7" name="椭圆 14"/>
          <p:cNvSpPr/>
          <p:nvPr/>
        </p:nvSpPr>
        <p:spPr>
          <a:xfrm>
            <a:off x="6324480" y="2720880"/>
            <a:ext cx="21456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28" name="Picture 6" descr="D:\f\颂大VI\LOGO\颂大LOGO-矢量图.png"/>
          <p:cNvPicPr/>
          <p:nvPr/>
        </p:nvPicPr>
        <p:blipFill>
          <a:blip r:embed="rId2"/>
          <a:stretch/>
        </p:blipFill>
        <p:spPr>
          <a:xfrm>
            <a:off x="7807320" y="214200"/>
            <a:ext cx="1062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3" descr="C:\Users\Administrator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0" name="矩形 29"/>
          <p:cNvSpPr/>
          <p:nvPr/>
        </p:nvSpPr>
        <p:spPr>
          <a:xfrm>
            <a:off x="0" y="1643040"/>
            <a:ext cx="9144000" cy="1571760"/>
          </a:xfrm>
          <a:prstGeom prst="rect">
            <a:avLst/>
          </a:prstGeom>
          <a:solidFill>
            <a:srgbClr val="f2f2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31" name="Picture 6" descr="D:\f\颂大VI\LOGO\颂大LOGO-矢量图.png"/>
          <p:cNvPicPr/>
          <p:nvPr/>
        </p:nvPicPr>
        <p:blipFill>
          <a:blip r:embed="rId2"/>
          <a:stretch/>
        </p:blipFill>
        <p:spPr>
          <a:xfrm>
            <a:off x="7807320" y="214200"/>
            <a:ext cx="1062000" cy="285840"/>
          </a:xfrm>
          <a:prstGeom prst="rect">
            <a:avLst/>
          </a:prstGeom>
          <a:ln w="0">
            <a:noFill/>
          </a:ln>
        </p:spPr>
      </p:pic>
      <p:sp>
        <p:nvSpPr>
          <p:cNvPr id="532" name="矩形 1"/>
          <p:cNvSpPr/>
          <p:nvPr/>
        </p:nvSpPr>
        <p:spPr>
          <a:xfrm>
            <a:off x="3089160" y="17859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53535"/>
                </a:solidFill>
                <a:latin typeface="微软雅黑"/>
                <a:ea typeface="微软雅黑"/>
              </a:rPr>
              <a:t>数字化校园的教学变革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3" name="矩形 4"/>
          <p:cNvSpPr/>
          <p:nvPr/>
        </p:nvSpPr>
        <p:spPr>
          <a:xfrm>
            <a:off x="176004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教学变革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3529800" y="2643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数字化测评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5" name="矩形 4"/>
          <p:cNvSpPr/>
          <p:nvPr/>
        </p:nvSpPr>
        <p:spPr>
          <a:xfrm>
            <a:off x="5357160" y="26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家校共育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6" name="矩形 4"/>
          <p:cNvSpPr/>
          <p:nvPr/>
        </p:nvSpPr>
        <p:spPr>
          <a:xfrm>
            <a:off x="7023960" y="26431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数字资源 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7" name="椭圆 23"/>
          <p:cNvSpPr/>
          <p:nvPr/>
        </p:nvSpPr>
        <p:spPr>
          <a:xfrm>
            <a:off x="1357200" y="2720880"/>
            <a:ext cx="21456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8" name="椭圆 24"/>
          <p:cNvSpPr/>
          <p:nvPr/>
        </p:nvSpPr>
        <p:spPr>
          <a:xfrm>
            <a:off x="3071880" y="2720880"/>
            <a:ext cx="21420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9" name="椭圆 25"/>
          <p:cNvSpPr/>
          <p:nvPr/>
        </p:nvSpPr>
        <p:spPr>
          <a:xfrm>
            <a:off x="4978440" y="2720880"/>
            <a:ext cx="21420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0" name="椭圆 26"/>
          <p:cNvSpPr/>
          <p:nvPr/>
        </p:nvSpPr>
        <p:spPr>
          <a:xfrm>
            <a:off x="6621480" y="2720880"/>
            <a:ext cx="214200" cy="21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C:\Users\Administrator\Desktop\pm0086-8503mx.jpg"/>
          <p:cNvPicPr/>
          <p:nvPr/>
        </p:nvPicPr>
        <p:blipFill>
          <a:blip r:embed="rId1"/>
          <a:srcRect l="738" t="19976" r="0" b="962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D:\f\颂大VI\LOGO\颂大LOGO-矢量图.png"/>
          <p:cNvPicPr/>
          <p:nvPr/>
        </p:nvPicPr>
        <p:blipFill>
          <a:blip r:embed="rId2"/>
          <a:stretch/>
        </p:blipFill>
        <p:spPr>
          <a:xfrm>
            <a:off x="7807320" y="214200"/>
            <a:ext cx="1062000" cy="285840"/>
          </a:xfrm>
          <a:prstGeom prst="rect">
            <a:avLst/>
          </a:prstGeom>
          <a:ln w="0">
            <a:noFill/>
          </a:ln>
        </p:spPr>
      </p:pic>
      <p:sp>
        <p:nvSpPr>
          <p:cNvPr id="543" name="矩形 22"/>
          <p:cNvSpPr/>
          <p:nvPr/>
        </p:nvSpPr>
        <p:spPr>
          <a:xfrm>
            <a:off x="0" y="2357280"/>
            <a:ext cx="9144000" cy="1571760"/>
          </a:xfrm>
          <a:prstGeom prst="rect">
            <a:avLst/>
          </a:prstGeom>
          <a:solidFill>
            <a:srgbClr val="f2f2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1500120" y="250020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53535"/>
                </a:solidFill>
                <a:latin typeface="微软雅黑"/>
                <a:ea typeface="微软雅黑"/>
              </a:rPr>
              <a:t>数字化校园更需要深度服务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5" name="文本框 2"/>
          <p:cNvSpPr/>
          <p:nvPr/>
        </p:nvSpPr>
        <p:spPr>
          <a:xfrm>
            <a:off x="11322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专家诊断服务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6" name="文本框 2"/>
          <p:cNvSpPr/>
          <p:nvPr/>
        </p:nvSpPr>
        <p:spPr>
          <a:xfrm>
            <a:off x="53481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文化建设服务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7" name="文本框 2"/>
          <p:cNvSpPr/>
          <p:nvPr/>
        </p:nvSpPr>
        <p:spPr>
          <a:xfrm>
            <a:off x="7293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驻校贴身服务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8" name="文本框 2"/>
          <p:cNvSpPr/>
          <p:nvPr/>
        </p:nvSpPr>
        <p:spPr>
          <a:xfrm>
            <a:off x="3178440" y="3357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数字化应用服务</a:t>
            </a: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49" name="椭圆 17"/>
          <p:cNvSpPr/>
          <p:nvPr/>
        </p:nvSpPr>
        <p:spPr>
          <a:xfrm>
            <a:off x="642960" y="3435480"/>
            <a:ext cx="21420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0" name="椭圆 18"/>
          <p:cNvSpPr/>
          <p:nvPr/>
        </p:nvSpPr>
        <p:spPr>
          <a:xfrm>
            <a:off x="2643120" y="3435480"/>
            <a:ext cx="21456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1" name="椭圆 19"/>
          <p:cNvSpPr/>
          <p:nvPr/>
        </p:nvSpPr>
        <p:spPr>
          <a:xfrm>
            <a:off x="4857840" y="3435480"/>
            <a:ext cx="21420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2" name="椭圆 20"/>
          <p:cNvSpPr/>
          <p:nvPr/>
        </p:nvSpPr>
        <p:spPr>
          <a:xfrm>
            <a:off x="6804000" y="3435480"/>
            <a:ext cx="214200" cy="214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4"/>
          <p:cNvSpPr/>
          <p:nvPr/>
        </p:nvSpPr>
        <p:spPr>
          <a:xfrm>
            <a:off x="0" y="0"/>
            <a:ext cx="9144000" cy="3929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2714760" y="3286080"/>
            <a:ext cx="37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武汉颂大教育科技股份有限公司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</a:t>
            </a:r>
            <a:endParaRPr b="1" lang="en-US" sz="1400" spc="-1" strike="noStrike">
              <a:solidFill>
                <a:srgbClr val="c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股票代码：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30244    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股票简称：颂大教育</a:t>
            </a:r>
            <a:endParaRPr b="1" lang="en-US" sz="14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555" name="Picture 3" descr="H:\2014工作\颂大VI\LOGO-横式.png"/>
          <p:cNvPicPr/>
          <p:nvPr/>
        </p:nvPicPr>
        <p:blipFill>
          <a:blip r:embed="rId1"/>
          <a:stretch/>
        </p:blipFill>
        <p:spPr>
          <a:xfrm>
            <a:off x="4143240" y="4429080"/>
            <a:ext cx="978120" cy="2682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D:\f\微信二维码.jpg"/>
          <p:cNvPicPr/>
          <p:nvPr/>
        </p:nvPicPr>
        <p:blipFill>
          <a:blip r:embed="rId2"/>
          <a:stretch/>
        </p:blipFill>
        <p:spPr>
          <a:xfrm>
            <a:off x="3786120" y="1571760"/>
            <a:ext cx="1643040" cy="15588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3"/>
          <p:cNvSpPr/>
          <p:nvPr/>
        </p:nvSpPr>
        <p:spPr>
          <a:xfrm>
            <a:off x="2738520" y="7142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谢谢聆听</a:t>
            </a:r>
            <a:endParaRPr b="1" lang="en-US" sz="36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9:27:00Z</dcterms:created>
  <dc:creator>SONY</dc:creator>
  <dc:description/>
  <dc:language>en-US</dc:language>
  <cp:lastModifiedBy>Administrator</cp:lastModifiedBy>
  <dcterms:modified xsi:type="dcterms:W3CDTF">2017-06-02T08:47:53Z</dcterms:modified>
  <cp:revision>1792</cp:revision>
  <dc:subject/>
  <dc:title>教育云汇报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